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00B-976E-4857-B674-9199FFC4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9FF-CEFC-4D07-B4B4-BD4294A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61F-48CB-4483-BE55-3E7DA75F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F42-480C-4EFF-B96E-597B2DEE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5E5-55CE-48DF-979D-2930E43D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F9F-7989-4AE0-9F38-4578C97E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99A-7B3B-416E-8F0C-AF538E28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D62-4343-4759-9533-A2C6E27B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218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08B-6428-4475-A540-99E5E5F8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1CB-E791-4979-A0C1-DCA755EA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D78-3E7A-4B75-B40D-E0F573E8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F62-7E76-4D28-B101-617F7F53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920" y="6093000"/>
            <a:ext cx="7272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Україна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Впровадження Концепції О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Технічна допомога НК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Позика МБРР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# 4795 – 0 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4241-DB8B-49E4-A588-5F5CA07CF367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276720" y="6165720"/>
            <a:ext cx="4464000" cy="547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25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Законодавч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 забезпечення переходу до нового ринку електричної енергії України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400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ітлана Голі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Шах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ес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171-2FB9-467B-B5AA-506028E11D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440" y="1020240"/>
            <a:ext cx="82184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труктура загальноукраїнського ринку електричної енергії за Законом України “Про засади функціонування ринку електричної енергії України”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нок двосторонніх договорів купівлі-продажу електричної енерг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 організований ринок купівлі-продажу електричної енергії, що здійснюється на біржі електричної енерг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) балансуючий ринок електричної енерг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) ринок допоміжних по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) ринок експорту-імпорту електричної енерг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134-256E-4DED-965E-41FC630E90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Реформування ринку електроенергії України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провадження нової моделі ринку ДДБР неможливе бе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йняття Закону України “Про засади функціонування ринку електричної енергії Україн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н до закону України “Про електроенергетик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A34-A1A7-4B79-8812-294E86E690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Ринок двосторонніх договорів та балансуючий ринок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(ДДБР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инок ДДБР буде запроваджений шлях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несення змін до чинного законодавства, 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йняття нового законодавства та укладення нових у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E37-A541-4B7E-9EEE-2C5BE5779E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1600" y="549360"/>
            <a:ext cx="8688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міни до первинного законодавства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760" y="1412640"/>
            <a:ext cx="84456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 Варіанти запровадження ринку ДД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305080"/>
            <a:ext cx="24894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Внесення змін до Закону України “Про електроенергетику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3889440"/>
            <a:ext cx="2298600" cy="581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іни до ЗУ “Про електроенергетик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305080"/>
            <a:ext cx="2737080" cy="23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рийняття спеціального закону про засади функціонування ринку електричної енергії із</a:t>
            </a:r>
            <a:br>
              <a:rPr sz="1300"/>
            </a:b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 прикінцевими положеннями функціонування ОРЕ та ринку ДДБР у перехідний період та поступове впровадження ДДБ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616120" y="1946160"/>
            <a:ext cx="1270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9080" y="1908000"/>
            <a:ext cx="132084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4797360"/>
            <a:ext cx="2489040" cy="1083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акон України про державне регулювання в енергетиці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що визначатиме повноваження НКРЕ на ринку електроенергі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61D-58AD-488E-A8FC-83F1C34859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За та Проти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991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арі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ідповідає Концепції ОР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ти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складнить сприйняття, оскільки Закон буде досить нагромаджений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достатність врегулювання відносин на новому ринку в рамках однієї чи кількох ста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кладність викладення норм щодо співіснування ринків ОРЕ та ДДБР в рамках одного зако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арі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 суперечить Концепції ОРЕ та підтримано у подальшому рішеннями Уря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мплексно регулює всі правовідносини, які складаються на ринку електричної енерг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йняття закону про ринок електричної енергії передбачено Прикінцевими положеннями Закону України “Про електроенергетику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безпечує окреме правове регулювання старого ОРЕ та нового ринку ДДБР із поступовим зменшенням частки 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тверджено розпорядженням КМУ 1056-р 28.11.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54440" y="2516040"/>
          <a:ext cx="40258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4440" y="2516040"/>
                    <a:ext cx="40258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4FC-0B84-45AF-8155-34C06CC098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Відмінності у нормативно-правовому регулюванні ОРЕ та ДДБР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92720" y="1557360"/>
            <a:ext cx="4211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бутній ДДБ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557360"/>
            <a:ext cx="42134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іючий 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92720" y="5327640"/>
            <a:ext cx="42116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окументи електроенергетичної бірж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ут біржі та правила біржової торгівл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327640"/>
            <a:ext cx="42134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92720" y="2700360"/>
            <a:ext cx="421164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кон про засади функціонування ринку електричної енергі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кон про державне регулювання в енергети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ідзаконні акти НК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цензійні Умови та Пр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авила комерційного облі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декс магістральних мереж, Кодекс розподільчих мере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ДЧОРЕ втрачає чинність з переходом до повномасштабного ДД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авила ринку</a:t>
            </a: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 (як зведення правил (нормативно-правових актів НК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00360"/>
            <a:ext cx="421344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Закону про ринок електричної енергії - відсутні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Додатково : Закон про державне регулювання в енергетиці -відсутні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ідзаконні акти НК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цензійні Умови та Пр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Правила комерційного обліку відсутн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Кодекси відсутн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оговірна баз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оговір між членами ОРЕ (ДЧОР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авила ринку ( додаток до ДЧО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92720" y="2227320"/>
            <a:ext cx="4211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ко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кон про електроенергетик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227320"/>
            <a:ext cx="4213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Закони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кон про електроенергетик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едбачав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557360"/>
            <a:ext cx="421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8726400"/>
            <a:ext cx="421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557360"/>
            <a:ext cx="0" cy="669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04360" y="1557360"/>
            <a:ext cx="0" cy="669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92720" y="1557360"/>
            <a:ext cx="421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2700360"/>
            <a:ext cx="0" cy="262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04360" y="2700360"/>
            <a:ext cx="0" cy="262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327640"/>
            <a:ext cx="0" cy="2006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04360" y="5327640"/>
            <a:ext cx="0" cy="2006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7334280"/>
            <a:ext cx="0" cy="82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04360" y="7334280"/>
            <a:ext cx="0" cy="82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8158320"/>
            <a:ext cx="0" cy="28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604360" y="8158320"/>
            <a:ext cx="0" cy="28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8442360"/>
            <a:ext cx="0" cy="28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604360" y="8442360"/>
            <a:ext cx="0" cy="28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92720" y="8726400"/>
            <a:ext cx="421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2227320"/>
            <a:ext cx="0" cy="473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92720" y="1557360"/>
            <a:ext cx="0" cy="42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04360" y="2227320"/>
            <a:ext cx="0" cy="473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227320"/>
            <a:ext cx="842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78C-E951-47F5-A6D3-F37CAD878B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Відмінності у нормативно-правовому регулюванні ОРЕ та ДДБР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413000"/>
            <a:ext cx="360072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кон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 про електроенергетику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ередбачав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Закону про ринок електричної енергії - </a:t>
            </a:r>
            <a:r>
              <a:rPr b="0" i="1" lang="uk-UA" sz="1600" spc="-1" strike="noStrike">
                <a:solidFill>
                  <a:srgbClr val="ff3300"/>
                </a:solidFill>
                <a:latin typeface="Arial"/>
              </a:rPr>
              <a:t>відсутн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Додатково : Закон про державне регулювання в енергетиці -</a:t>
            </a:r>
            <a:r>
              <a:rPr b="0" i="1" lang="uk-UA" sz="1600" spc="-1" strike="noStrike">
                <a:solidFill>
                  <a:srgbClr val="ff3300"/>
                </a:solidFill>
                <a:latin typeface="Arial"/>
              </a:rPr>
              <a:t>відсутн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ідзаконні акти НК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Ліцензійні Умови та Прав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Правила комерційного обліку </a:t>
            </a:r>
            <a:r>
              <a:rPr b="0" i="1" lang="uk-UA" sz="1600" spc="-1" strike="noStrike">
                <a:solidFill>
                  <a:srgbClr val="ff3300"/>
                </a:solidFill>
                <a:latin typeface="Arial"/>
              </a:rPr>
              <a:t>відсут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Кодекси </a:t>
            </a:r>
            <a:r>
              <a:rPr b="0" i="1" lang="uk-UA" sz="1600" spc="-1" strike="noStrike">
                <a:solidFill>
                  <a:srgbClr val="ff3300"/>
                </a:solidFill>
                <a:latin typeface="Arial"/>
              </a:rPr>
              <a:t>відсут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говірна ба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говір між членами ОРЕ (ДЧОРЕ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авила ринку ( додаток до ДЧО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1413000"/>
            <a:ext cx="4392720" cy="44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ко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 про електроенергетику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 про засади функціонування ринку електричної енергі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 про державне регулювання в енергетиц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ідзаконні акти НК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Ліцензійні Умови та Прав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авила комерційного облі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декс магістральних мереж, Кодекс розподільчих мере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ДЧОРЕ втрачає чинність з переходом до повномасштабного ДДБ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авила ринку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(як зведення правил (нормативно-правових актів НК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кументи електроенергетичної бірж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атут біржі та правила біржової торгів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893-2E65-4E12-99B6-1389A15126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ект Закону України</a:t>
            </a:r>
            <a:br>
              <a:rPr sz="3600"/>
            </a:b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«Про засади функціонування ринку електричної енергії в Україні»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труктура закону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гальні полож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йні та правові засади функціонування ринку електричної енергії Украї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ва та обов’язки суб’єктів ринку електричної енер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кономічні та технологічні засади функціонування ринку електроенерг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жавне регулюванн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нку електроенергі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повідальність с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єктів ринку електричної енергії та органу державного регулювання в електроенергет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кінцеві та перехідні поло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3E2-7888-4D40-BD64-1C99E1394F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Структура загальноукраїнського ринку електричної енергії за Законом України “Про засади функціонування ринку електричної енергії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йна структура ринку електричної енергії в цілому у разі прийняття закону про засади функціонування ринку електричної енергії виглядатиме наступним чин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іючий оптовий ринок електричної енергії Украї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инок двосторонніх договорів купівлі-продажу електричної енерг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) Організований ринок купівлі-продажу електричної енергії, що здійснюється на біржі електричної енерг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) Балансуючий ринок електричної енерг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) Ринок допоміжних по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) Ринок експорту-імпорту електричної енерг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) Роздрібний ринок електричної енерг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гменти ринку 2)-6), що по суті складає ринок ДДБР, регулюватимуться новим Законом про засади функціонування ринку електричної енер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909-7CED-43FF-80AE-992FD933B9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9920" y="98100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труктура загальноукраїнського ринку електричної енергії за Законами України “Про електроенергетику” та  “Про засади функціонування ринку електричної енергії України”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9120" y="203148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довжує функціонувати на підставі Закону України “Про електроенергетику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ючий оптовий ринок електричної енергії Україн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моменту припинення свого існ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дрібний ринок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новими правилами лібералізованого постачання споживаче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B6D-727D-48F9-AF0E-A5C5DE36C9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1:15:51Z</dcterms:created>
  <dc:creator>sdjorovic</dc:creator>
  <dc:description/>
  <dc:language>en-US</dc:language>
  <cp:lastModifiedBy>Punchik</cp:lastModifiedBy>
  <dcterms:modified xsi:type="dcterms:W3CDTF">2008-09-21T20:11:40Z</dcterms:modified>
  <cp:revision>1635</cp:revision>
  <dc:subject/>
  <dc:title>Slide 1</dc:title>
</cp:coreProperties>
</file>